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9B10-1D7B-41B2-AD72-9994C5585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FB08-6AEA-47D0-8A95-4990D857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F4CE-3DDB-4232-8FC7-2F04AEDBA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3E76-54E1-4F85-B4D2-B0B7BC561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A560-E90D-4C47-9DBA-80AAEBBB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2247-2D80-45DB-8165-9825078F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2B90-9FCC-43F2-B5EB-2075933F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1BB5-61F9-454D-ADDD-3EF1DB45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022D-C643-475C-90DD-807F8D5F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0607-FC4D-4411-B8F3-45DDF777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214D-6C87-453C-9CE7-94766D4D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1EDE-6CD1-4CFF-B687-0CA32D11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8554-A255-414B-9A7F-6EC67C7633E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00"/>
                </a:solidFill>
                <a:latin typeface="Arial"/>
              </a:rPr>
              <a:t>Cohort and longitudinal studies: statistic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Kath Bennet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IE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 June 20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4" descr="logomariecurie"/>
          <p:cNvPicPr/>
          <p:nvPr/>
        </p:nvPicPr>
        <p:blipFill>
          <a:blip r:embed="rId1"/>
          <a:stretch/>
        </p:blipFill>
        <p:spPr>
          <a:xfrm>
            <a:off x="900000" y="476280"/>
            <a:ext cx="19051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Case fatality 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ually expressed as the percentage of persons diagnosed as having a specified disease who die as a result of that illness within a given peri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Sometimes 30-day or 1 year case-fatality rates quo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case-fatality rate is not the same as mortality ra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s also referred to as fatality rate or case-fatality rat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Relative 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lative rate is ratio of 2 r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.e. (rate group 1)/(rate group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so known as rate rat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ample, rate for CHD in men calculated as 1.76 per 1000 in 1995, and 0.483 per 1000 in wom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lative rate =1.76/0.483 =3.65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Mortality from lung cancer by </a:t>
            </a:r>
            <a:br>
              <a:rPr sz="4400"/>
            </a:b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5-year age-ban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4" descr="epimortlungcancer"/>
          <p:cNvPicPr/>
          <p:nvPr/>
        </p:nvPicPr>
        <p:blipFill>
          <a:blip r:embed="rId1"/>
          <a:stretch/>
        </p:blipFill>
        <p:spPr>
          <a:xfrm>
            <a:off x="457200" y="1295280"/>
            <a:ext cx="792468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Standardised 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00"/>
                </a:solidFill>
                <a:latin typeface="Arial"/>
              </a:rPr>
              <a:t>Direct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quires a standard population to which age-specific rates are appl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ultiply age-specific rates in pops A &amp;B by standard population then comp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Indirect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age-specific rates for populations not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ased on applying age-specific rates for standard population to population of interest to determine ‘expected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ardised Mortality Ratio (SMR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 Total Observed deaths / Total Exp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Direct standardisation – raw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5" name="Object 4"/>
          <p:cNvGraphicFramePr/>
          <p:nvPr/>
        </p:nvGraphicFramePr>
        <p:xfrm>
          <a:off x="-609480" y="1447920"/>
          <a:ext cx="10815480" cy="569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9480" y="1447920"/>
                    <a:ext cx="10815480" cy="56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Direct standardis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-457200" y="1579680"/>
          <a:ext cx="10379160" cy="527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1579680"/>
                    <a:ext cx="10379160" cy="52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Indirect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-1446120" y="996840"/>
          <a:ext cx="11163240" cy="54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6120" y="996840"/>
                    <a:ext cx="1116324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Indirect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bserved 1781 dea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MR = 1781/2032.5 = 0.87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MR&gt;1  more deaths than exp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MR&lt;1 less deaths than exp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multiplied by 10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00"/>
                </a:solidFill>
                <a:latin typeface="Arial"/>
              </a:rPr>
              <a:t>Examples of cohort stud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Framingham study. Cohort of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5,209 men and women  in 1948 between the ages of 30 and 62 from the town of Framingham, Massachusetts, to examine CVD development, returning every two yea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British doctors study. Cohort of male doctors started in 1951 to examine smoking and related mortality (Doll and Hill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illion Women Study. Cohort of 1 million women asked about HRT use and followed up for cancer incid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24000" y="1197000"/>
          <a:ext cx="7127640" cy="54864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29852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persons free of dise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s who develop disease over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s who do not develop disease over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osed to risk fac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+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exposed to risk fac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+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+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+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+b+c+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Rectangle 40"/>
          <p:cNvSpPr/>
          <p:nvPr/>
        </p:nvSpPr>
        <p:spPr>
          <a:xfrm>
            <a:off x="1042920" y="189000"/>
            <a:ext cx="7416720" cy="11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Data from a cohort study are expressed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41"/>
          <p:cNvSpPr/>
          <p:nvPr/>
        </p:nvSpPr>
        <p:spPr>
          <a:xfrm>
            <a:off x="2268360" y="765000"/>
            <a:ext cx="38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Follow-up to see wheth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43"/>
          <p:cNvSpPr/>
          <p:nvPr/>
        </p:nvSpPr>
        <p:spPr>
          <a:xfrm>
            <a:off x="7451640" y="2565360"/>
            <a:ext cx="181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Arial"/>
              </a:rPr>
              <a:t>Incidence in exposed (IE)=a/a+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44"/>
          <p:cNvSpPr/>
          <p:nvPr/>
        </p:nvSpPr>
        <p:spPr>
          <a:xfrm>
            <a:off x="7524720" y="4005360"/>
            <a:ext cx="1814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Arial"/>
              </a:rPr>
              <a:t>Incidence in unexposed (IO)=c/c+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Statistical method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Prevalence, Incid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ates, standardised rates, case fatality 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elative rates/ris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Attributable risk and Attributable risk f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egression and beta coeffici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Data from cohort studies are analyzed in terms of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Relative risk (RR)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Incidence rate in the exposed group (IE)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cidence rate in the non-exposed group (I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lative risks significantly higher than 1 imply that the factor under study is associated with an increased risk of dise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lative risks significantly lower than 1 imply that the factor is  associated with a decreased risk of diseas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magnitude of the relative risk indicates the strength of the associ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734364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Attributable Risk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748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ttributable risk implies that not all of the disease incidence is due to the exposure, as some nonexposed individuals may develop the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O (Incidence in nonexposed group) = 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"background incidence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E (Incidence in exposed group) = ”background incidence”+ Incidence due to the exposure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fore, the incidence in the exposed group which is attributable to the exposure can be calculated by subtract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ttributable risk (AR): AR = IE – 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0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Attributable risk percent: 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539640" y="1413000"/>
            <a:ext cx="8820360" cy="45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percentage of the total incidence in the exposed group which is attributable to the exposure can be calculat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R%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IE - IO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 100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t cut also = (RR-1)/R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97164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Population is not all expo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06668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cases per 1000 population are   attributable to the exposu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we know the Incidence in the total population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x (1-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is the Prevalenc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f the expos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 Attributable Ris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=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cut 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 X P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Populatio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82803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proportion of the risk in the total population is attributabl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 Attributable Risk %,PAR%, PA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nominator is the risk in the total population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. The numerator is the “extra” risk (PAR) which i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% =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Io)/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%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R-1)/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R-1)+1]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Verdana"/>
              </a:rPr>
              <a:t>Example: Cohort study of smoking and coronary heart diseas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Verdana"/>
              </a:rPr>
              <a:t>Cohort of initially healthy peop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evelop CHD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on't Develop CHD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otal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mokers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84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2916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3000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Non-smokers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87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4913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5000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cidence in Smokers = 84/3000 = 28.0 per 1,000/ye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cidence in Non-Smokers = 87/5000 = 17.4 per 1,000/ye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R =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Verdana"/>
              </a:rPr>
              <a:t>Incidence in Smokers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Verdana"/>
              </a:rPr>
              <a:t>28.0/1000/yr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= 1.6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cidence in Non-Smokers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17.4/1000/yr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Example: Attributable ris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 (incidence in exposed group attributable to the exposu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Incidence in Smokers - Incidence in Non-Smok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28.0 - 17.4 = 10.6/1000/y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%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% total incidence in exposed grp attributable to exposu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Incidence in Smokers - Incidence in Non-Smoker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 x 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idence in Sm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(28.0 - 17.4) x 10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10.6 x 10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 = 37.9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8.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8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7.9% of the morbidity from CHD among smokers may be attributable to smok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00"/>
                </a:solidFill>
                <a:latin typeface="Arial"/>
              </a:rPr>
              <a:t>Example: Population AR (PAR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137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pulation Attributable R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= 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 X 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se prevalence of smoking in the population is 40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calculate 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-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= 21.6/1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.6/1000 – 17.4/1000 =4.2/1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 = AR X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(10.6/1000)X 0.4 =4.2/1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pulation Attributable Risk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%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[(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/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= (21.6-17.4)/21.6 = 19.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PAR%=(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R-1) / [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R-1)+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0.4*(1.6-1)/[0.4*(1.6-1)+1]=19.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Methods to account for varying lengths of follow-up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nce participants may enter or leave the study at various times due to death, emmigration or loss to follow-up, the time of observation is usually not uniform. This is accounted for by main metho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. Person - years of obser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. Life - table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Survival analysis, Cox proportional haz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Regressio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Measuring disease/drug frequen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Prevalence is the </a:t>
            </a:r>
            <a:r>
              <a:rPr b="0" i="1" lang="en-IE" sz="3200" spc="-1" strike="noStrike">
                <a:solidFill>
                  <a:srgbClr val="ffffff"/>
                </a:solidFill>
                <a:latin typeface="Arial"/>
              </a:rPr>
              <a:t>proportion of a population that are cases at one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no of existing cases with disease/on dru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Total population in same time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e.g birth defect prevalence rate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no of births with given abnorm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Total number of live bir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Line 4"/>
          <p:cNvSpPr/>
          <p:nvPr/>
        </p:nvSpPr>
        <p:spPr>
          <a:xfrm>
            <a:off x="1447920" y="3886200"/>
            <a:ext cx="5715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1295280" y="5943600"/>
            <a:ext cx="5181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Is the linear relationship reasonabl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09624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Regre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53964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In broad terms, regression can be thought of as a statistical model which is used to help us get the ‘best guess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Formally, we assume that there is an underlying linear relationship between the variables, and our observations lie scattered about that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The actual value of ‘Y’ is ‘scattered’ about the expected or predicted value of 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Linear Model Illustrat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508720" y="1988640"/>
            <a:ext cx="3457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Line is ‘best’ fit in statistical sen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Scatter is called </a:t>
            </a:r>
            <a:r>
              <a:rPr b="1" lang="en-IE" sz="3200" spc="-1" strike="noStrike">
                <a:solidFill>
                  <a:srgbClr val="ffffff"/>
                </a:solidFill>
                <a:latin typeface="Times New Roman"/>
              </a:rPr>
              <a:t>residual </a:t>
            </a: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varia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64832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68436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Regression equ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61128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The equation of a line can be written 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E[Y] = a + bX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a = intercept (where line cuts Y ax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b = slope of the line (can be +ve or –v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Software fits the ‘best guess’ for a and b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68360" y="4437000"/>
            <a:ext cx="8675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Regression Analysis: Leaving versus M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The regression equa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Leaving = </a:t>
            </a:r>
            <a:r>
              <a:rPr b="1" lang="en-GB" sz="1800" spc="-1" strike="noStrike">
                <a:solidFill>
                  <a:srgbClr val="00cc99"/>
                </a:solidFill>
                <a:latin typeface="Courier New"/>
              </a:rPr>
              <a:t>7.75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+ </a:t>
            </a:r>
            <a:r>
              <a:rPr b="1" lang="en-GB" sz="1800" spc="-1" strike="noStrike">
                <a:solidFill>
                  <a:srgbClr val="ff7c80"/>
                </a:solidFill>
                <a:latin typeface="Courier New"/>
              </a:rPr>
              <a:t>0.817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M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Predictor        Coef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S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T        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Constant        7.749       3.122       2.48    0.02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Mock          0.81749     0.04284      19.08    0.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More ques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Is there an effect of gend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That is can one consider different lines for red and blu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Should these lines be parallel or no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What about ‘adjusting’ for other covariates such as age or ‘intelligence’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More than one variable = multiple linear reg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560" y="18284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Incidence is the </a:t>
            </a:r>
            <a:r>
              <a:rPr b="0" i="1" lang="en-IE" sz="2800" spc="-1" strike="noStrike">
                <a:solidFill>
                  <a:srgbClr val="ffffff"/>
                </a:solidFill>
                <a:latin typeface="Arial"/>
              </a:rPr>
              <a:t>rate at which new cases occur in a population during a specified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umber of new cases/starting on therapy in peri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pulation at risk in given peri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Bacteremia among OC users in study of 482 using OC, 27 developed bacterem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cidence= (27/482)*100=5.6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Measuring disease/drug frequen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Line 4"/>
          <p:cNvSpPr/>
          <p:nvPr/>
        </p:nvSpPr>
        <p:spPr>
          <a:xfrm>
            <a:off x="1116000" y="335772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Inter-relation between incidence and preval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23619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valence = incidence* average du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Rates commonly used in epidemi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ccccff"/>
                </a:solidFill>
                <a:latin typeface="Arial"/>
              </a:rPr>
              <a:t>Crude r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entire population eg. Total deaths/pop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ff"/>
                </a:solidFill>
                <a:latin typeface="Arial"/>
              </a:rPr>
              <a:t>Category specific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(e.g. age-specific, gender-specifi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g. Cancer rates by age-category, 35-44, 45-5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ff"/>
                </a:solidFill>
                <a:latin typeface="Arial"/>
              </a:rPr>
              <a:t>Age-adjuste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standardise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r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ows for appropriate comparison when differing populations being studies. Reduces distortions in comparison due to age differences in popul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Ra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4572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ed to quantify the risk in a popu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umerator is number of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nominator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pulation at ris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-years at risk or expo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ually presented as per 1000 persons or 1000 person-years at ris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vided the disease/event occurs randomly and independently, reasonable to assume follow Poisson distribu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timated standard error of 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 (rate)=number of events /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p at r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prox 95% CI for number events (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(1.96/2 -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)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U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(1.96/2 +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E+1))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prox 95% CI for 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wer CI= 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/Pop,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pper CI= 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U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/P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The number of deaths from CHD in Scottish men in 1995 was 1080, total population of men 61295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ate of CHD deaths per 1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1080/612955)*1000 = 1.7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% CI for number of deaths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(1.96/2 -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80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1016.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U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(1.96/2 +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81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1146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% CI for rates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16.55/612955 , 1146.4/6129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1.66, 1.8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1T14:33:02Z</dcterms:created>
  <dc:creator>bmaguire</dc:creator>
  <dc:description/>
  <dc:language>en-US</dc:language>
  <cp:lastModifiedBy>Computing Services</cp:lastModifiedBy>
  <dcterms:modified xsi:type="dcterms:W3CDTF">2008-04-10T12:31:18Z</dcterms:modified>
  <cp:revision>77</cp:revision>
  <dc:subject/>
  <dc:title>Trial design</dc:title>
</cp:coreProperties>
</file>